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6D8-9E93-43B7-A0D2-4F1A2840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EFE-45A3-420B-80BD-6255B3C1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354-BBD2-42B4-867C-AFCCBA5C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59B-9CA5-4512-8F85-161E8BD8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D268-0F67-4C19-90E0-D482892D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AA67-E0A9-406E-8498-2BAF98E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11F3-9EED-4083-914F-92601F10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433-376A-4998-BCAD-0E3DF0A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DC0-9B41-4C16-A02B-FA0E2AC4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3FBF-B46D-4206-AE1A-2C1FE74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547E-4758-4669-B775-7EAEC66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ED5-528C-465D-B742-54DEB4A0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6C6E-D7A4-47C0-8663-6283283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0DA-C66A-486F-B0E4-5BA71F4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9D9-4243-447F-ABFC-F267FD8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4B28-DFFC-462A-B612-4EC9783D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01B6-EDF1-4C91-989D-8219FDAC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1E6-BC57-4FC4-951C-9DF476C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0C6-1D9F-408B-B82E-C636499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A19-9879-4372-A60C-87BFC3A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C4E-D592-4AF8-9069-249BEE1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C45-D545-4A77-9F77-881AF96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EA5-5CD6-43DA-B97E-EFC5599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059-F987-45E2-A482-A8BD982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75F-7586-40BE-BBF8-DC52B0C5D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B4D1-DB05-495A-8B12-C7184656C2B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Profbilet"/>
          <p:cNvPicPr/>
          <p:nvPr/>
        </p:nvPicPr>
        <p:blipFill>
          <a:blip r:embed="rId1"/>
          <a:stretch/>
        </p:blipFill>
        <p:spPr>
          <a:xfrm>
            <a:off x="6172200" y="3200400"/>
            <a:ext cx="2344680" cy="3376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90440" y="767880"/>
            <a:ext cx="856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«Профсоюзы – честь страны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 их рядах мы быть должны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10" descr="profsouz2017"/>
          <p:cNvPicPr/>
          <p:nvPr/>
        </p:nvPicPr>
        <p:blipFill>
          <a:blip r:embed="rId2"/>
          <a:stretch/>
        </p:blipFill>
        <p:spPr>
          <a:xfrm>
            <a:off x="1371600" y="3200400"/>
            <a:ext cx="36576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1-23T03:14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